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EA2-2B95-478E-AC5A-E36EFD8B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D789-4F4A-4D06-9C98-027FBDC7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7208-FEF3-4414-AD11-F39DCFE4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D88E-61A8-4F04-A9B5-B1B5AE77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95CF-6CC2-4530-995B-B7F04C17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A12-F9F9-4D0B-A0A6-941D76D1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9303-EF3B-4CAB-AC08-26564EEF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DAAA-0F18-4A84-A70E-C1B18218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91D-7E7C-4681-838A-D6727DBA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DF72-3439-47D4-BB47-1A049018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EC2A-813D-4F0D-A01C-B8E53BC7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AF0-D83F-4198-847C-31D54C99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1561-BA9A-42A4-A707-6589BC009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304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638680" y="533520"/>
            <a:ext cx="327672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نحن الذين اعتمدنا فيك أيها المس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إحفَظنا في ثوبِ ضِياَ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ئِكَ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  المج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7219758DxrZZt_ph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3049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تم الذينَ اعتَمَدتُم في المسيحْ قد لبِستُمُ المسيح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57800" y="304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533520"/>
            <a:ext cx="327672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نحن الذين اعتمدنا فيك أيها المس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إحفَظنا في ثوبِ ضِياَ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ئِكَ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  المج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998066guZQrOLuCi_ph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324480" y="304920"/>
            <a:ext cx="243864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ميعُكم أبناءُ اللهِ بالإيمانِ بيسوعَ المسيح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57800" y="304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8680" y="533520"/>
            <a:ext cx="327672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نحن الذين اعتمدنا فيك أيها المس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إحفَظنا في ثوبِ ضِياَ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ئِكَ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  المج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P-KAF0059" descr=""/>
          <p:cNvPicPr/>
          <p:nvPr/>
        </p:nvPicPr>
        <p:blipFill>
          <a:blip r:embed="rId1"/>
          <a:stretch/>
        </p:blipFill>
        <p:spPr>
          <a:xfrm>
            <a:off x="0" y="0"/>
            <a:ext cx="65721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781680" y="457200"/>
            <a:ext cx="1981440" cy="85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33"/>
                </a:solidFill>
                <a:latin typeface="Times New Roman"/>
                <a:cs typeface="Arabic Transparent"/>
              </a:rPr>
              <a:t>أما تعلمونَ أنَّ أجسادّكُم هي هَيكَلُ الروحِ القد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57800" y="304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533520"/>
            <a:ext cx="327672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نحن الذين اعتمدنا فيك أيها المس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إحفَظنا في ثوبِ ضِياَ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ئِكَ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  المج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52242359KjXGwQ_ph" descr=""/>
          <p:cNvPicPr/>
          <p:nvPr/>
        </p:nvPicPr>
        <p:blipFill>
          <a:blip r:embed="rId1"/>
          <a:stretch/>
        </p:blipFill>
        <p:spPr>
          <a:xfrm>
            <a:off x="0" y="0"/>
            <a:ext cx="50068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10080" y="1066680"/>
            <a:ext cx="3353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جّدوا اللهَ واحملوهُ في أجسادكم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57800" y="304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533520"/>
            <a:ext cx="327672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نحن الذين اعتمدنا فيك أيها المس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إحفَظنا في ثوبِ ضِياَ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ئِكَ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  المج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9:19:48Z</dcterms:created>
  <dc:creator>SUZANNE.MD</dc:creator>
  <dc:description/>
  <dc:language>en-US</dc:language>
  <cp:lastModifiedBy>USER</cp:lastModifiedBy>
  <dcterms:modified xsi:type="dcterms:W3CDTF">2003-01-07T16:16:12Z</dcterms:modified>
  <cp:revision>2</cp:revision>
  <dc:subject/>
  <dc:title>PowerPoint Presentation</dc:title>
</cp:coreProperties>
</file>